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98A22-B038-4189-B5B0-8EA724A6C47C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2577D-68FB-4DE3-8C21-A17596087325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982A-22FB-4F0B-B824-1BE2FB2DF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77FE-A75C-4E61-A4AC-1EDA87D11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399D-1045-4ABD-BBF9-BF41151A7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1749-739D-4D68-B669-1CD864AC2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F0E5-595D-41DE-A998-5E64C8EF9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A12D-54B4-4794-A2AE-F1DD31DAA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DF46-D9EE-4457-9675-6A3A732C6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2076-4DB1-4A58-A040-20025EE26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CE75-1B8C-4EB3-95A7-02806A39F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77D1-AFAA-4760-9943-1BA6D4775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F16B-542F-4568-9DAB-693C04A65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1E71-80E9-4AAA-98C1-B7AE341F7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4474B-DFC7-4F6C-AA11-3FA98219A124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남대학교의료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해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승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9.01.28 ~ 2.20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2" name="Picture 5" descr="map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반 버스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-1, 410, 410-1, 405, 452, 503, 604, 805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달서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 65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영대병원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구광역시 남구 대명동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17-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연락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53-623-8001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넥타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검정색 종류의 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히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격주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,0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재활치료 분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FES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7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&amp; topic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있을수도 없을수도 있으며 일정에 따라 달라진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보통 짧으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길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정도 소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시로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일지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art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별로 틀리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마지막주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안할 수 도 있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54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 외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6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위주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NF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흡운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bobath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-284400">
              <a:lnSpc>
                <a:spcPct val="2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modality, manua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환자 우선으로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4572000" y="1447920"/>
            <a:ext cx="347652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FES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FES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치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스트레칭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ROM, FES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종합병원급의 시스템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참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낙후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 시간 때 쉴 공간이 없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에는 밥이 맛없었다고 하나 그냥 그럭저럭 먹을만 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 말고는 계속 서 있어야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분야로 나뉘어 있어서 모든 분야를 경험 할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대병원으로 오세용 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ㅁ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44Z</dcterms:modified>
  <cp:revision>11</cp:revision>
  <dc:subject/>
  <dc:title>영남대학교의료원</dc:title>
</cp:coreProperties>
</file>